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whoosh.wav" ContentType="audio/x-wav"/>
  <Override PartName="/ppt/media/image5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media/image11.png" ContentType="image/png"/>
  <Override PartName="/ppt/media/camera.wav" ContentType="audio/x-wav"/>
  <Override PartName="/ppt/media/image22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DCB0-1580-40A4-BE1A-73411D7C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32D9-4D26-486D-8BB2-364761CF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640B-9CF8-4B87-BCF6-40DAC64C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2918-026A-4495-8923-E628D1D7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C471-F158-4F09-AC41-F844A473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AEAD-2D6D-4A44-9E78-E1F1A5DC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74E4-2061-4FD7-BD93-7A5E309C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8C52-7F3A-4AD8-BF8F-EBED8E0A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EAC-303F-4B41-9B8B-7D39DF2C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2EBF-11E2-4E4E-90A3-097468FD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E5FB-BEE4-44CE-A1D0-5B2047F5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4725-A7D2-42EB-853D-F2FA6A7B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1d8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1AEE-AEC2-4C1F-B9A9-FE9CBF4E5A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860B-BB0E-4124-94F6-5F0937CB11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oncept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533520" y="2438280"/>
            <a:ext cx="8153280" cy="1371600"/>
            <a:chOff x="533520" y="2438280"/>
            <a:chExt cx="8153280" cy="1371600"/>
          </a:xfrm>
        </p:grpSpPr>
        <p:sp>
          <p:nvSpPr>
            <p:cNvPr id="46" name="Arc 4"/>
            <p:cNvSpPr/>
            <p:nvPr/>
          </p:nvSpPr>
          <p:spPr>
            <a:xfrm>
              <a:off x="5783400" y="2438280"/>
              <a:ext cx="2903400" cy="13716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rc 5"/>
            <p:cNvSpPr/>
            <p:nvPr/>
          </p:nvSpPr>
          <p:spPr>
            <a:xfrm>
              <a:off x="5708880" y="2579760"/>
              <a:ext cx="2906640" cy="108828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rc 6"/>
            <p:cNvSpPr/>
            <p:nvPr/>
          </p:nvSpPr>
          <p:spPr>
            <a:xfrm>
              <a:off x="5666040" y="2768760"/>
              <a:ext cx="2904840" cy="71028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AutoShape 7"/>
            <p:cNvSpPr/>
            <p:nvPr/>
          </p:nvSpPr>
          <p:spPr>
            <a:xfrm>
              <a:off x="533520" y="3051720"/>
              <a:ext cx="7918560" cy="14112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18E7-ED1C-4C9C-A2F3-B6A87E4139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Brainstorming – Idea Gen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914400" y="1066680"/>
            <a:ext cx="7391520" cy="17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Make Ana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What analogies exist in nature? What analogous products exist? How do these products solve the same product function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990720" y="2895480"/>
            <a:ext cx="6324480" cy="10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Wish and wo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What if …..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990720" y="3962520"/>
            <a:ext cx="7391160" cy="19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ketch/use physical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What would an idea look like? How does this model satisfies the function? What can we chang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AE01-69D9-4D5F-A1A2-8EFDF22CDB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Brainstorming – Idea Gen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liminate or minim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Can we remove a feature? What can we use to replace a feature? What if a feature were smaller? Could we divide it into two part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Modify and magn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What can be made larger or extended? What can be exaggerated? What can add extra value? What can be duplicated? Convert a round section to a straight one? Can motion, form, shape, color, sound, odor be change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omb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Can we combine purposes? How about assortments? How about blending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B032-C8A2-41F7-BE1D-870EEC8E45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Brainstorming – Idea Gen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verse or rear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Should we turn it around? Up instead of          down?Consider it backwards? What other arrangements might be better? Interchange components? Do the unexpecte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ubstit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What can be substitute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da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What else is like this? What other ideas this suggest? What could we copy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3006-90BC-48BB-BA28-37AEB96C47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Sketch and 6-3-5 method</a:t>
            </a:r>
            <a:br>
              <a:rPr sz="3200"/>
            </a:b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Brain-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28195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Team members are arranged around a circular table to provide continuity. Six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(6)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members are ide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Each member sketches thre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(3)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ideas for the product configuration or functions. Sketches should be the focus of this activity. The top five product functions with respect to the customer needs are consider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09480" y="990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 traditional brainstorming relies on verbal communications. Idea generation may be dominated by a small number of aggressive me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09480" y="2286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ff99"/>
                </a:solidFill>
                <a:uFillTx/>
                <a:latin typeface="Times New Roman"/>
              </a:rPr>
              <a:t>Guideline for 6-3-5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7075-A97D-4729-9D2D-EF17D49255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Sketch and 6-3-5 method</a:t>
            </a:r>
            <a:br>
              <a:rPr sz="3200"/>
            </a:b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Brain-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The three ideas are passed to the right. A certain time limit is set to add additional ideas and to modify or extend the ideas. This is done for fiv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(5)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round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No verbal communication until a round is comple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Traditional brainstorming may be implemented after a few rounds of 6-5-3 sess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The focus of the modifications during the passing of ideas should be on advancing the ideas, not on negative criticis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0831-435C-4751-A76A-EBE724BAF8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173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Example of a 6-3-5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843200" y="11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rcRect l="0" t="0" r="1673" b="1022"/>
          <a:stretch/>
        </p:blipFill>
        <p:spPr>
          <a:xfrm>
            <a:off x="1143000" y="1219320"/>
            <a:ext cx="6369120" cy="5270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0" name="Text Box 5"/>
          <p:cNvSpPr/>
          <p:nvPr/>
        </p:nvSpPr>
        <p:spPr>
          <a:xfrm>
            <a:off x="609480" y="69516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wer screw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4157-E9D9-479F-8F94-E1091D8BA7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Example of a 6-3-5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86696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>
            <a:lum contrast="22000"/>
          </a:blip>
          <a:srcRect l="0" t="2219" r="0" b="0"/>
          <a:stretch/>
        </p:blipFill>
        <p:spPr>
          <a:xfrm>
            <a:off x="768240" y="857160"/>
            <a:ext cx="7635960" cy="5691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0EC2-8AD1-402C-92F6-9ECC27478F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Concept Generation – Advanced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enerating ideas from physical princi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enerating ideas using classifying sche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enerating concepts by implementing the Theory of Inventive Problem Solving (TIP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38080" y="9907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irected-search or logical concept generation methods are used to develop ideas in a step-by-step comprehensive fash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254B-7932-4C80-B282-4726FE5AB2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Generating ideas from physical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990720" y="10666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tate possible physical principles that can govern the product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990720" y="1905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f a known physical effect can be described by a known equation with independent variables, then thes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ariables can be changed to generate different concep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8"/>
          <p:cNvGrpSpPr/>
          <p:nvPr/>
        </p:nvGrpSpPr>
        <p:grpSpPr>
          <a:xfrm>
            <a:off x="990720" y="4724280"/>
            <a:ext cx="7238880" cy="1069560"/>
            <a:chOff x="990720" y="4724280"/>
            <a:chExt cx="7238880" cy="1069560"/>
          </a:xfrm>
        </p:grpSpPr>
        <p:sp>
          <p:nvSpPr>
            <p:cNvPr id="180" name="Text Box 6"/>
            <p:cNvSpPr/>
            <p:nvPr/>
          </p:nvSpPr>
          <p:spPr>
            <a:xfrm>
              <a:off x="990720" y="4724280"/>
              <a:ext cx="72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Change in length of a rod due to temperature cha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1367640" y="5334120"/>
              <a:ext cx="58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99"/>
                  </a:solidFill>
                  <a:latin typeface="Times New Roman"/>
                </a:rPr>
                <a:t>Change in length = α </a:t>
              </a:r>
              <a:r>
                <a:rPr b="0" lang="en-US" sz="2400" spc="-1" strike="noStrike">
                  <a:solidFill>
                    <a:srgbClr val="ffff99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99"/>
                  </a:solidFill>
                  <a:latin typeface="Times New Roman"/>
                </a:rPr>
                <a:t>change in temp.</a:t>
              </a:r>
              <a:r>
                <a:rPr b="0" lang="en-US" sz="2400" spc="-1" strike="noStrike">
                  <a:solidFill>
                    <a:srgbClr val="ffff99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99"/>
                  </a:solidFill>
                  <a:latin typeface="Times New Roman"/>
                </a:rPr>
                <a:t> 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Group 10"/>
          <p:cNvGrpSpPr/>
          <p:nvPr/>
        </p:nvGrpSpPr>
        <p:grpSpPr>
          <a:xfrm>
            <a:off x="990720" y="3352680"/>
            <a:ext cx="7238880" cy="1069560"/>
            <a:chOff x="990720" y="3352680"/>
            <a:chExt cx="7238880" cy="1069560"/>
          </a:xfrm>
        </p:grpSpPr>
        <p:sp>
          <p:nvSpPr>
            <p:cNvPr id="183" name="Text Box 4"/>
            <p:cNvSpPr/>
            <p:nvPr/>
          </p:nvSpPr>
          <p:spPr>
            <a:xfrm>
              <a:off x="990720" y="3352680"/>
              <a:ext cx="72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Dynamic force applied to a me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9"/>
            <p:cNvSpPr/>
            <p:nvPr/>
          </p:nvSpPr>
          <p:spPr>
            <a:xfrm>
              <a:off x="1445760" y="3962520"/>
              <a:ext cx="396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99"/>
                  </a:solidFill>
                  <a:latin typeface="Times New Roman"/>
                </a:rPr>
                <a:t>Force =  </a:t>
              </a:r>
              <a:r>
                <a:rPr b="0" lang="en-US" sz="2400" spc="-1" strike="noStrike">
                  <a:solidFill>
                    <a:srgbClr val="ffff99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99"/>
                  </a:solidFill>
                  <a:latin typeface="Times New Roman"/>
                </a:rPr>
                <a:t>mass</a:t>
              </a:r>
              <a:r>
                <a:rPr b="0" lang="en-US" sz="2400" spc="-1" strike="noStrike">
                  <a:solidFill>
                    <a:srgbClr val="ffff99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99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99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99"/>
                  </a:solidFill>
                  <a:latin typeface="Times New Roman"/>
                </a:rPr>
                <a:t>acceleration</a:t>
              </a:r>
              <a:r>
                <a:rPr b="0" lang="en-US" sz="2400" spc="-1" strike="noStrike">
                  <a:solidFill>
                    <a:srgbClr val="ffff99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52CE-4AEE-40A5-9AF1-E08C56FA36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Generating ideas from physical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2986200" y="9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rcRect l="0" t="1794" r="0" b="0"/>
          <a:stretch/>
        </p:blipFill>
        <p:spPr>
          <a:xfrm>
            <a:off x="3689280" y="762120"/>
            <a:ext cx="3703680" cy="5838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91" name="Text Box 5"/>
          <p:cNvSpPr/>
          <p:nvPr/>
        </p:nvSpPr>
        <p:spPr>
          <a:xfrm>
            <a:off x="457200" y="990720"/>
            <a:ext cx="3429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pacitive Parallel-plate system for sens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 = 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/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B90E-1710-4AF9-9B42-F00A38BE3E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Concep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990720" y="6858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underlying goal of concept generation is to develop as many ideas as possible, the more the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04920" y="1676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process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2971800" y="1676520"/>
            <a:ext cx="3048120" cy="990360"/>
          </a:xfrm>
          <a:prstGeom prst="flowChartProcess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derstanding the prima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er Needs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gineering Spec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16"/>
          <p:cNvGrpSpPr/>
          <p:nvPr/>
        </p:nvGrpSpPr>
        <p:grpSpPr>
          <a:xfrm>
            <a:off x="2971800" y="2666880"/>
            <a:ext cx="2971800" cy="1067040"/>
            <a:chOff x="2971800" y="2666880"/>
            <a:chExt cx="2971800" cy="1067040"/>
          </a:xfrm>
        </p:grpSpPr>
        <p:sp>
          <p:nvSpPr>
            <p:cNvPr id="58" name="AutoShape 7"/>
            <p:cNvSpPr/>
            <p:nvPr/>
          </p:nvSpPr>
          <p:spPr>
            <a:xfrm>
              <a:off x="2971800" y="2971800"/>
              <a:ext cx="2971800" cy="762120"/>
            </a:xfrm>
            <a:prstGeom prst="flowChartProcess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ecompose the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ording to Fun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2"/>
            <p:cNvSpPr/>
            <p:nvPr/>
          </p:nvSpPr>
          <p:spPr>
            <a:xfrm>
              <a:off x="4419720" y="2666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Group 17"/>
          <p:cNvGrpSpPr/>
          <p:nvPr/>
        </p:nvGrpSpPr>
        <p:grpSpPr>
          <a:xfrm>
            <a:off x="2971800" y="3733920"/>
            <a:ext cx="3048120" cy="1295280"/>
            <a:chOff x="2971800" y="3733920"/>
            <a:chExt cx="3048120" cy="1295280"/>
          </a:xfrm>
        </p:grpSpPr>
        <p:sp>
          <p:nvSpPr>
            <p:cNvPr id="61" name="AutoShape 8"/>
            <p:cNvSpPr/>
            <p:nvPr/>
          </p:nvSpPr>
          <p:spPr>
            <a:xfrm>
              <a:off x="2971800" y="4038480"/>
              <a:ext cx="3048120" cy="990720"/>
            </a:xfrm>
            <a:prstGeom prst="flowChartProcess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arch for Solutions f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ach Product Fun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4"/>
            <p:cNvSpPr/>
            <p:nvPr/>
          </p:nvSpPr>
          <p:spPr>
            <a:xfrm>
              <a:off x="4419720" y="3733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18"/>
          <p:cNvGrpSpPr/>
          <p:nvPr/>
        </p:nvGrpSpPr>
        <p:grpSpPr>
          <a:xfrm>
            <a:off x="3200400" y="5029200"/>
            <a:ext cx="2590920" cy="1523880"/>
            <a:chOff x="3200400" y="5029200"/>
            <a:chExt cx="2590920" cy="1523880"/>
          </a:xfrm>
        </p:grpSpPr>
        <p:sp>
          <p:nvSpPr>
            <p:cNvPr id="64" name="AutoShape 9"/>
            <p:cNvSpPr/>
            <p:nvPr/>
          </p:nvSpPr>
          <p:spPr>
            <a:xfrm>
              <a:off x="3200400" y="5334120"/>
              <a:ext cx="2590920" cy="1218960"/>
            </a:xfrm>
            <a:prstGeom prst="flowChartProcess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bine Solutions i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cept Varia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5"/>
            <p:cNvSpPr/>
            <p:nvPr/>
          </p:nvSpPr>
          <p:spPr>
            <a:xfrm>
              <a:off x="4496040" y="5029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9BDA-CA5C-4C9E-A578-3936FCE156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Generating ideas using classifying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Times New Roman"/>
              </a:rPr>
              <a:t>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Typ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Stationary, translational, rotat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Nature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– Uniform, non-uniform, oscilla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Planar, three dimens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Number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– one, several, composite mo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Times New Roman"/>
              </a:rPr>
              <a:t>Basic material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Stat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Solid, liquid, gaseo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Behavior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– Rigid, elastic, visco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Form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– Solid bodies, powder, grai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838080" y="9144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assifying schemes are categories of high-level physical principles or geometry. They help in developing concepts that may not have been considered in a purely intuitive appro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75F3-4E50-416B-BE83-14AFBD3C2F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Generating ideas using classifying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Times New Roman"/>
              </a:rPr>
              <a:t>Basic structural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ff99"/>
                </a:solidFill>
                <a:latin typeface="Times New Roman"/>
              </a:rPr>
              <a:t>Joints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– rigid, rotational, slid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ff99"/>
                </a:solidFill>
                <a:latin typeface="Times New Roman"/>
              </a:rPr>
              <a:t>Alignment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– horizontal, vertical, angled, tru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ff99"/>
                </a:solidFill>
                <a:latin typeface="Times New Roman"/>
              </a:rPr>
              <a:t>Loading conditions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– tension, compression,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bending, tor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Times New Roman"/>
              </a:rPr>
              <a:t>Geo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ff99"/>
                </a:solidFill>
                <a:latin typeface="Times New Roman"/>
              </a:rPr>
              <a:t>Size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– small, large, narrow, tall, lo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ff99"/>
                </a:solidFill>
                <a:latin typeface="Times New Roman"/>
              </a:rPr>
              <a:t>Shape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– cylindrical, cone, cube, sphe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ff99"/>
                </a:solidFill>
                <a:latin typeface="Times New Roman"/>
              </a:rPr>
              <a:t>Position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– Axial, radial, tangential, vertic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8116-FD70-451E-B693-920734062F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Generating ideas using classifying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85800" y="685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 use a classification scheme, the design team should focus on the primary product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257560" y="11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57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1"/>
          <a:srcRect l="0" t="0" r="0" b="15931"/>
          <a:stretch/>
        </p:blipFill>
        <p:spPr>
          <a:xfrm>
            <a:off x="2374920" y="1622520"/>
            <a:ext cx="6172200" cy="5075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11" name="Text Box 12"/>
          <p:cNvSpPr/>
          <p:nvPr/>
        </p:nvSpPr>
        <p:spPr>
          <a:xfrm>
            <a:off x="182520" y="1843200"/>
            <a:ext cx="216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Example:   Storing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637000" y="6585120"/>
            <a:ext cx="5698800" cy="1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6C7F-4B95-439E-BB46-E1D3DAB6EE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Generating concepts by implementing the Theory of Inventive Problem Solving (TIP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143000" y="1600200"/>
            <a:ext cx="6934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The theory was developed by discovering that patterns exist in patents. Originally by Altshuller in late 1940s and revised by Domb and Slocum, 1998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143000" y="35053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After studying millions of patents, it was discovered that patents fall into five categori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9589-8A80-47B0-B635-B97959040C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00"/>
                </a:solidFill>
                <a:latin typeface="Times New Roman"/>
              </a:rPr>
              <a:t>Generating concepts by implementing the Theory of Inventive Problem Solving (TIP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32004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Identifying conflicts and solving them with known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physical principles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Identifying new principles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Identifying new product functions and solving them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ith known or new principles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imes New Roman"/>
              </a:rPr>
              <a:t>	</a:t>
            </a:r>
            <a:r>
              <a:rPr b="0" i="1" lang="en-US" sz="2600" spc="-1" strike="noStrike">
                <a:solidFill>
                  <a:srgbClr val="99ff99"/>
                </a:solidFill>
                <a:latin typeface="Times New Roman"/>
              </a:rPr>
              <a:t>The last three categories represent designs that include inventive solu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09480" y="1371600"/>
            <a:ext cx="80773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Basic parametric advancement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Change or rearrangement in configuration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189000" y="2287440"/>
            <a:ext cx="79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The first two are considered “routine design”, they do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not exhibit significant innov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DEE4-4316-49BC-A01C-AE8DE36446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Generalized Engineering Parameters for Describing Product Matr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200988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04920" y="1249200"/>
            <a:ext cx="8628120" cy="529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1BAA-64FF-4497-B150-CD75F18A79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TIPS’ Design Princ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143000" y="1295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re are 40 “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design princip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85800" y="19810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inciple of segmentation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vide the object into independent parts that are easy to disassemble, increase the degree of segmentation as much a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685800" y="33526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inciple of removal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move the necessary or disturbing part from the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85800" y="4343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inciple of local quality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ange the object’s or environment’s structure from homogeneous to non-homogenous. Let different parts of the object carry different function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3EBB-5A02-4BB9-976A-467069E59A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1814400" y="7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>
            <a:lum contrast="30000"/>
          </a:blip>
          <a:srcRect l="0" t="13469" r="0" b="0"/>
          <a:stretch/>
        </p:blipFill>
        <p:spPr>
          <a:xfrm>
            <a:off x="1654200" y="1090440"/>
            <a:ext cx="6858000" cy="5767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5" name="Text Box 5"/>
          <p:cNvSpPr/>
          <p:nvPr/>
        </p:nvSpPr>
        <p:spPr>
          <a:xfrm>
            <a:off x="0" y="7621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PS’ Design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2">
            <a:lum contrast="30000"/>
          </a:blip>
          <a:srcRect l="0" t="0" r="0" b="86940"/>
          <a:stretch/>
        </p:blipFill>
        <p:spPr>
          <a:xfrm>
            <a:off x="1654200" y="190440"/>
            <a:ext cx="6858000" cy="871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7" name="Rectangle 7"/>
          <p:cNvSpPr/>
          <p:nvPr/>
        </p:nvSpPr>
        <p:spPr>
          <a:xfrm>
            <a:off x="1855800" y="3754440"/>
            <a:ext cx="6429240" cy="360360"/>
          </a:xfrm>
          <a:prstGeom prst="rect">
            <a:avLst/>
          </a:prstGeom>
          <a:solidFill>
            <a:srgbClr val="ff99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1865160" y="5307120"/>
            <a:ext cx="6429600" cy="360360"/>
          </a:xfrm>
          <a:prstGeom prst="rect">
            <a:avLst/>
          </a:prstGeom>
          <a:solidFill>
            <a:srgbClr val="ff99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1882800" y="1676520"/>
            <a:ext cx="6429240" cy="360360"/>
          </a:xfrm>
          <a:prstGeom prst="rect">
            <a:avLst/>
          </a:prstGeom>
          <a:solidFill>
            <a:srgbClr val="ff99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8F14-5F7A-4009-8742-5D3EE617C0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1852560" y="5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676520" y="149400"/>
            <a:ext cx="6235560" cy="6629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55" name="Rectangle 5"/>
          <p:cNvSpPr/>
          <p:nvPr/>
        </p:nvSpPr>
        <p:spPr>
          <a:xfrm>
            <a:off x="228600" y="4572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PS’ Design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1760400" y="5675400"/>
            <a:ext cx="6002640" cy="344520"/>
          </a:xfrm>
          <a:prstGeom prst="rect">
            <a:avLst/>
          </a:prstGeom>
          <a:solidFill>
            <a:srgbClr val="ff99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1760400" y="3754440"/>
            <a:ext cx="5958000" cy="376200"/>
          </a:xfrm>
          <a:prstGeom prst="rect">
            <a:avLst/>
          </a:prstGeom>
          <a:solidFill>
            <a:srgbClr val="ff99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1760400" y="2368440"/>
            <a:ext cx="5956560" cy="451080"/>
          </a:xfrm>
          <a:prstGeom prst="rect">
            <a:avLst/>
          </a:prstGeom>
          <a:solidFill>
            <a:srgbClr val="ff99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1760400" y="1544760"/>
            <a:ext cx="5973840" cy="360360"/>
          </a:xfrm>
          <a:prstGeom prst="rect">
            <a:avLst/>
          </a:prstGeom>
          <a:solidFill>
            <a:srgbClr val="ff99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42F9-3AC5-4B5D-864D-9E59EC889F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1268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Relationship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241452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>
            <a:lum contrast="30000"/>
          </a:blip>
          <a:srcRect l="3178" t="2885" r="3178" b="2885"/>
          <a:stretch/>
        </p:blipFill>
        <p:spPr>
          <a:xfrm>
            <a:off x="1704960" y="758880"/>
            <a:ext cx="7354800" cy="542772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5"/>
          <p:cNvSpPr/>
          <p:nvPr/>
        </p:nvSpPr>
        <p:spPr>
          <a:xfrm>
            <a:off x="0" y="888840"/>
            <a:ext cx="1859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The tables relate generalized engr. parameters to generalized solution principles. Each column and row represents generalized engr. Parameters, and the cell contents represents the suggested generalized solution principles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10D6-BFC9-4343-80C0-199B5CD873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Concept Generation – Basic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uitive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ocuses on idea generation from within an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individual or group of individuals. The intent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is to remove barriers to divergent thinking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nd promote creative thinking (Brainstormin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838080" y="3657600"/>
            <a:ext cx="7772400" cy="19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irected (Logical)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 systematic, step-by-step approach to searching for a solution. It relies on technical information, guidelines and expert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9903-736A-4ED2-A8F7-8E7084744D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-95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Relationship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235260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rcRect l="2061" t="5137" r="2061" b="5137"/>
          <a:stretch/>
        </p:blipFill>
        <p:spPr>
          <a:xfrm>
            <a:off x="625320" y="730080"/>
            <a:ext cx="799164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01A9-9FFD-4C63-AAC2-ECA7B79673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Example using T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8"/>
          <p:cNvGrpSpPr/>
          <p:nvPr/>
        </p:nvGrpSpPr>
        <p:grpSpPr>
          <a:xfrm>
            <a:off x="609480" y="3809880"/>
            <a:ext cx="7543800" cy="2801880"/>
            <a:chOff x="609480" y="3809880"/>
            <a:chExt cx="7543800" cy="2801880"/>
          </a:xfrm>
        </p:grpSpPr>
        <p:sp>
          <p:nvSpPr>
            <p:cNvPr id="278" name="Text Box 3"/>
            <p:cNvSpPr/>
            <p:nvPr/>
          </p:nvSpPr>
          <p:spPr>
            <a:xfrm>
              <a:off x="609480" y="4191120"/>
              <a:ext cx="4267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Times New Roman"/>
                </a:rPr>
                <a:t>From table of  engineering parameters, the conflict is with regard to force (#10) verses weight of moving object (#1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9" name="Picture 4" descr=""/>
            <p:cNvPicPr/>
            <p:nvPr/>
          </p:nvPicPr>
          <p:blipFill>
            <a:blip r:embed="rId1">
              <a:lum contrast="20000"/>
            </a:blip>
            <a:srcRect l="0" t="0" r="67864" b="47968"/>
            <a:stretch/>
          </p:blipFill>
          <p:spPr>
            <a:xfrm>
              <a:off x="5334120" y="3809880"/>
              <a:ext cx="2819160" cy="28018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  <p:sp>
        <p:nvSpPr>
          <p:cNvPr id="280" name="Rectangle 5"/>
          <p:cNvSpPr/>
          <p:nvPr/>
        </p:nvSpPr>
        <p:spPr>
          <a:xfrm>
            <a:off x="533520" y="8380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onsider the evolution of the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iron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product for smoothing wrinkles from clo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533520" y="1676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 important function of an iron is to transfer force to the clothing to remove wrinkles. It is equally important that it should reduce the force on the user (comfortable 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533520" y="28954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conflict is that we want a heavy iron to remove wrinkles but we do not want a heavy iron due to the impact on ergonom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BAEC-3ADC-4453-8B5A-5D7340BD26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>
            <a:lum contrast="30000"/>
          </a:blip>
          <a:srcRect l="4238" t="2885" r="33901" b="44134"/>
          <a:stretch/>
        </p:blipFill>
        <p:spPr>
          <a:xfrm>
            <a:off x="984240" y="2239920"/>
            <a:ext cx="6757920" cy="4251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3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Example using T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457200" y="631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sing the relationship matrix table, TIPS principles “8, 1, 18, and 37” apply to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6"/>
          <p:cNvSpPr/>
          <p:nvPr/>
        </p:nvSpPr>
        <p:spPr>
          <a:xfrm flipV="1">
            <a:off x="6064200" y="2590200"/>
            <a:ext cx="76320" cy="152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5840280" y="2604960"/>
            <a:ext cx="32868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5793480" y="252396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8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5734080" y="2681280"/>
            <a:ext cx="58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18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5008680" y="15112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Engineering parameter, #10 (for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2"/>
          <p:cNvSpPr/>
          <p:nvPr/>
        </p:nvSpPr>
        <p:spPr>
          <a:xfrm flipH="1">
            <a:off x="6111360" y="1981080"/>
            <a:ext cx="381240" cy="4874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496800" y="163368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Engineering parameter, #1 (w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4"/>
          <p:cNvSpPr/>
          <p:nvPr/>
        </p:nvSpPr>
        <p:spPr>
          <a:xfrm flipH="1">
            <a:off x="1371240" y="2057400"/>
            <a:ext cx="655560" cy="731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F106-0CC3-4DB2-AF2E-8A06F399A6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Example using T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914400" y="106668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nciple #8 – consider adding a counter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nciple #1 – divide the design into independent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nciple #37 – consider thermal expan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nciple # 18 – consider adding vibration to the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914400" y="38098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990720" y="3429000"/>
            <a:ext cx="73911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#8 suggests a levered counter w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#1 suggests a foot-operated sandwich 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#37 suggests adding water sp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#18 - mechanical vibration may be added with an eccentric weight that would increase the force into the clothing, while reducing the carrying weight of he i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0F84-5B8C-481B-A171-F0FFEF9815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Summary of the TIPS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rmine the conflict(s) in the design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termine the generalized engineering parame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rmine the intersection in the TIPS table for the numbers of the engineering parame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ad the principles that apply to help solve the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se the design principles to develop creative solutions to the confli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79E6-B42D-4DF5-BF3A-0307080B1E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Functional De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838080" y="990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sign an easily removable device that can keep water and mud off the rider of a mountain bike without interfering with the bike’s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298620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>
            <a:lum contrast="30000"/>
          </a:blip>
          <a:srcRect l="2885" t="0" r="0" b="0"/>
          <a:stretch/>
        </p:blipFill>
        <p:spPr>
          <a:xfrm>
            <a:off x="133200" y="2590920"/>
            <a:ext cx="4515120" cy="1995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16" name="Rectangle 7"/>
          <p:cNvSpPr/>
          <p:nvPr/>
        </p:nvSpPr>
        <p:spPr>
          <a:xfrm>
            <a:off x="328140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25239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12"/>
          <p:cNvSpPr/>
          <p:nvPr/>
        </p:nvSpPr>
        <p:spPr>
          <a:xfrm>
            <a:off x="350028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276696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87640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17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724280" y="2057400"/>
            <a:ext cx="4419720" cy="3668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41DB-00A4-4831-A5B6-4523EC2644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Functional De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>
            <a:lum contrast="22000"/>
          </a:blip>
          <a:srcRect l="4464" t="0" r="8929" b="0"/>
          <a:stretch/>
        </p:blipFill>
        <p:spPr>
          <a:xfrm>
            <a:off x="146160" y="1143000"/>
            <a:ext cx="4686120" cy="1836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27" name="Picture 5" descr=""/>
          <p:cNvPicPr/>
          <p:nvPr/>
        </p:nvPicPr>
        <p:blipFill>
          <a:blip r:embed="rId2">
            <a:lum contrast="30000"/>
          </a:blip>
          <a:srcRect l="0" t="0" r="0" b="5861"/>
          <a:stretch/>
        </p:blipFill>
        <p:spPr>
          <a:xfrm>
            <a:off x="3809880" y="3657600"/>
            <a:ext cx="5029200" cy="2043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28" name="Picture 6" descr=""/>
          <p:cNvPicPr/>
          <p:nvPr/>
        </p:nvPicPr>
        <p:blipFill>
          <a:blip r:embed="rId3">
            <a:lum contrast="20000"/>
          </a:blip>
          <a:srcRect l="5396" t="0" r="5396" b="0"/>
          <a:stretch/>
        </p:blipFill>
        <p:spPr>
          <a:xfrm>
            <a:off x="5019840" y="1141560"/>
            <a:ext cx="4012920" cy="1836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29" name="Picture 7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609480" y="3809880"/>
            <a:ext cx="2895840" cy="1814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40CA-25A7-4FC6-A00D-7038EE6485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2971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veloping Concept for each 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2205000" y="2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rcRect l="0" t="40639" r="0" b="0"/>
          <a:stretch/>
        </p:blipFill>
        <p:spPr>
          <a:xfrm>
            <a:off x="3581280" y="2787480"/>
            <a:ext cx="5064120" cy="407052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10"/>
          <p:cNvGrpSpPr/>
          <p:nvPr/>
        </p:nvGrpSpPr>
        <p:grpSpPr>
          <a:xfrm>
            <a:off x="0" y="1200240"/>
            <a:ext cx="8645400" cy="4632120"/>
            <a:chOff x="0" y="1200240"/>
            <a:chExt cx="8645400" cy="4632120"/>
          </a:xfrm>
        </p:grpSpPr>
        <p:pic>
          <p:nvPicPr>
            <p:cNvPr id="337" name="Picture 6" descr=""/>
            <p:cNvPicPr/>
            <p:nvPr/>
          </p:nvPicPr>
          <p:blipFill>
            <a:blip r:embed="rId2">
              <a:lum contrast="30000"/>
            </a:blip>
            <a:srcRect l="7602" t="0" r="7602" b="5861"/>
            <a:stretch/>
          </p:blipFill>
          <p:spPr>
            <a:xfrm>
              <a:off x="0" y="4191120"/>
              <a:ext cx="3425760" cy="16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7" descr=""/>
            <p:cNvPicPr/>
            <p:nvPr/>
          </p:nvPicPr>
          <p:blipFill>
            <a:blip r:embed="rId3"/>
            <a:srcRect l="0" t="17824" r="0" b="58463"/>
            <a:stretch/>
          </p:blipFill>
          <p:spPr>
            <a:xfrm>
              <a:off x="3581280" y="1200240"/>
              <a:ext cx="5064120" cy="16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Group 9"/>
          <p:cNvGrpSpPr/>
          <p:nvPr/>
        </p:nvGrpSpPr>
        <p:grpSpPr>
          <a:xfrm>
            <a:off x="304920" y="0"/>
            <a:ext cx="8340480" cy="3652920"/>
            <a:chOff x="304920" y="0"/>
            <a:chExt cx="8340480" cy="3652920"/>
          </a:xfrm>
        </p:grpSpPr>
        <p:pic>
          <p:nvPicPr>
            <p:cNvPr id="340" name="Picture 5" descr=""/>
            <p:cNvPicPr/>
            <p:nvPr/>
          </p:nvPicPr>
          <p:blipFill>
            <a:blip r:embed="rId4">
              <a:lum contrast="20000"/>
            </a:blip>
            <a:stretch/>
          </p:blipFill>
          <p:spPr>
            <a:xfrm>
              <a:off x="304920" y="1981080"/>
              <a:ext cx="2666880" cy="16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8" descr=""/>
            <p:cNvPicPr/>
            <p:nvPr/>
          </p:nvPicPr>
          <p:blipFill>
            <a:blip r:embed="rId5"/>
            <a:srcRect l="0" t="0" r="0" b="81564"/>
            <a:stretch/>
          </p:blipFill>
          <p:spPr>
            <a:xfrm>
              <a:off x="3581280" y="0"/>
              <a:ext cx="5064120" cy="1263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5541-FE34-4CD1-B90E-8FFC44EE0B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9900"/>
                </a:solidFill>
                <a:latin typeface="Times New Roman"/>
              </a:rPr>
              <a:t>Combine Solutions for each  Function into Concept Vari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287640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762120" y="914400"/>
            <a:ext cx="4800600" cy="1590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48" name="Rectangle 6"/>
          <p:cNvSpPr/>
          <p:nvPr/>
        </p:nvSpPr>
        <p:spPr>
          <a:xfrm>
            <a:off x="269568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icture 5" descr=""/>
          <p:cNvPicPr/>
          <p:nvPr/>
        </p:nvPicPr>
        <p:blipFill>
          <a:blip r:embed="rId2"/>
          <a:stretch/>
        </p:blipFill>
        <p:spPr>
          <a:xfrm>
            <a:off x="3200400" y="2784600"/>
            <a:ext cx="5257800" cy="1668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50" name="Rectangle 8"/>
          <p:cNvSpPr/>
          <p:nvPr/>
        </p:nvSpPr>
        <p:spPr>
          <a:xfrm>
            <a:off x="264780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7" descr=""/>
          <p:cNvPicPr/>
          <p:nvPr/>
        </p:nvPicPr>
        <p:blipFill>
          <a:blip r:embed="rId3"/>
          <a:stretch/>
        </p:blipFill>
        <p:spPr>
          <a:xfrm>
            <a:off x="762120" y="4800600"/>
            <a:ext cx="5105160" cy="1579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7F08-FF0D-4E4E-B8C5-6B1596E33E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9900"/>
                </a:solidFill>
                <a:latin typeface="Times New Roman"/>
              </a:rPr>
              <a:t>Combine Solutions for each  Function into Concept Vari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59092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rcRect l="2155" t="3677" r="4311" b="7354"/>
          <a:stretch/>
        </p:blipFill>
        <p:spPr>
          <a:xfrm>
            <a:off x="380880" y="762120"/>
            <a:ext cx="4267440" cy="2379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58" name="Rectangle 6"/>
          <p:cNvSpPr/>
          <p:nvPr/>
        </p:nvSpPr>
        <p:spPr>
          <a:xfrm>
            <a:off x="2757600" y="14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2"/>
          <a:stretch/>
        </p:blipFill>
        <p:spPr>
          <a:xfrm>
            <a:off x="4419720" y="2165400"/>
            <a:ext cx="4343400" cy="2449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60" name="Picture 9" descr=""/>
          <p:cNvPicPr/>
          <p:nvPr/>
        </p:nvPicPr>
        <p:blipFill>
          <a:blip r:embed="rId3"/>
          <a:srcRect l="0" t="0" r="0" b="3794"/>
          <a:stretch/>
        </p:blipFill>
        <p:spPr>
          <a:xfrm>
            <a:off x="228600" y="4307040"/>
            <a:ext cx="4724280" cy="2296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32F9-F6C3-4EC4-A53E-858E4536B3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1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Information Gath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222200" y="44784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nowledge is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– it leads to inno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rcRect l="0" t="0" r="0" b="2027"/>
          <a:stretch/>
        </p:blipFill>
        <p:spPr>
          <a:xfrm>
            <a:off x="1600200" y="1047600"/>
            <a:ext cx="5526000" cy="5715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BD5D-820D-4409-BC1E-39C2CFAADF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Combine Solutions for each  Function into Concept Vari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2352600" y="123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1"/>
          <a:stretch/>
        </p:blipFill>
        <p:spPr>
          <a:xfrm>
            <a:off x="3003480" y="1052640"/>
            <a:ext cx="5267520" cy="5209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67" name="Text Box 5"/>
          <p:cNvSpPr/>
          <p:nvPr/>
        </p:nvSpPr>
        <p:spPr>
          <a:xfrm>
            <a:off x="228600" y="1066680"/>
            <a:ext cx="2743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ard f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l variations are about attaching the fender to the b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3235-A871-4E7C-B24A-28D334B0CD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Brainst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overall goal is to obtain several concepts that might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l team members are encouraged to be open and uninhabited during the early s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o need to adhere to product specifications, focus on the functional needs of the produ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primary advantage of brainstorming is the ability of set of individuals to collectively build on each other to generate new ideas that would not arise individu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90720" y="9907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n intuitive method of generating conce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E599-E3D2-4220-A033-40A9A3AB62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Brainst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lect a group leader, to prevent judgments and to encourage participation by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orm the group with 5 to 15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o not confine the group to experts in the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Individuals could come to the session with a set of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mit the brainstorming to 45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o not include bosses, managers or supervisors in the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609480" y="9144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ome guidelines for brainstorming sess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9697-DAE2-472C-B574-FB75B6BCC2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1"/>
          <a:stretch/>
        </p:blipFill>
        <p:spPr>
          <a:xfrm>
            <a:off x="685800" y="4648320"/>
            <a:ext cx="4114800" cy="1806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Brainst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08636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5715000" y="4724280"/>
            <a:ext cx="2209680" cy="1322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414324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1523880" y="914400"/>
            <a:ext cx="4572000" cy="3060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0"/>
          <p:cNvSpPr/>
          <p:nvPr/>
        </p:nvSpPr>
        <p:spPr>
          <a:xfrm>
            <a:off x="359568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3429000" y="5410080"/>
            <a:ext cx="1295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2971800" y="5486400"/>
            <a:ext cx="1828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3124080" y="5334120"/>
            <a:ext cx="1447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2895480" y="5867280"/>
            <a:ext cx="533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3809880" y="434340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2057400" y="6019920"/>
            <a:ext cx="2666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4038480" y="579132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4267080" y="4648320"/>
            <a:ext cx="533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7"/>
          <p:cNvSpPr/>
          <p:nvPr/>
        </p:nvSpPr>
        <p:spPr>
          <a:xfrm>
            <a:off x="2895480" y="4495680"/>
            <a:ext cx="1219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52"/>
          <p:cNvGrpSpPr/>
          <p:nvPr/>
        </p:nvGrpSpPr>
        <p:grpSpPr>
          <a:xfrm>
            <a:off x="2895480" y="3886200"/>
            <a:ext cx="3276720" cy="1011240"/>
            <a:chOff x="2895480" y="3886200"/>
            <a:chExt cx="3276720" cy="1011240"/>
          </a:xfrm>
        </p:grpSpPr>
        <p:pic>
          <p:nvPicPr>
            <p:cNvPr id="110" name="Picture 5" descr=""/>
            <p:cNvPicPr/>
            <p:nvPr/>
          </p:nvPicPr>
          <p:blipFill>
            <a:blip r:embed="rId4"/>
            <a:stretch/>
          </p:blipFill>
          <p:spPr>
            <a:xfrm>
              <a:off x="4343400" y="3886200"/>
              <a:ext cx="182880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Line 48"/>
            <p:cNvSpPr/>
            <p:nvPr/>
          </p:nvSpPr>
          <p:spPr>
            <a:xfrm flipV="1">
              <a:off x="2895480" y="4440240"/>
              <a:ext cx="167652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49"/>
          <p:cNvSpPr/>
          <p:nvPr/>
        </p:nvSpPr>
        <p:spPr>
          <a:xfrm>
            <a:off x="5181480" y="152388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7051-9B91-481E-901C-0174861503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Brainst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85800" y="406440"/>
            <a:ext cx="8001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Memory Map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– the group leader is responsible for recording the brainstorming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rcRect l="838" t="0" r="0" b="0"/>
          <a:stretch/>
        </p:blipFill>
        <p:spPr>
          <a:xfrm>
            <a:off x="1523880" y="1371600"/>
            <a:ext cx="6172200" cy="5222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9F95-4FDE-41BE-8803-58E64C8BED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Brainst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987480" y="85716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mmarize the results of the brainstor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5563" t="3866" r="238" b="1157"/>
          <a:stretch/>
        </p:blipFill>
        <p:spPr>
          <a:xfrm>
            <a:off x="1068480" y="1525680"/>
            <a:ext cx="717552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ki</dc:creator>
  <dc:description/>
  <dc:language>en-US</dc:language>
  <cp:lastModifiedBy>walmart</cp:lastModifiedBy>
  <dcterms:modified xsi:type="dcterms:W3CDTF">2014-03-21T12:11:36Z</dcterms:modified>
  <cp:revision>66</cp:revision>
  <dc:subject/>
  <dc:title>PowerPoint Presentation</dc:title>
</cp:coreProperties>
</file>